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8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6226-2F58-4924-9487-C70086630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7721-E557-4EE3-ABAF-C622C04544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3726-C9E3-4899-BB0F-8F9F1B95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DFD6-95EA-40D8-A4BF-4EAEFF89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0365-E731-4AA5-82C5-24369C66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E116-0DD6-4A10-8B97-BBB14014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EE37-6F44-4250-B5B4-D6A5EFE6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FE5A-8178-447F-BFCB-AF2C6788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8BC5-F25D-4A63-BF58-9C1581DB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5A29-B9F0-40D8-A848-E440129E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4023-CF59-4307-8193-24E7ED4D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1244-D010-4213-827C-115CF1BC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88BC-0965-4450-941B-FA584663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E4D9-2036-4600-9C3C-39688980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F7A1-F211-4550-9447-649F2D0E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28C0-239E-427A-93CD-EA15348F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2AAB-FF5A-4DC8-801E-A6B6148F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8DA0-B076-411E-9B05-1CD6F26D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18FA-AED5-4020-9445-5EB30ED7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62DD-A059-43B1-9E1B-658EA766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51A3-8572-4822-8F6B-665D30B8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42F6-BAEB-4742-9967-52FAC00C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B989-332D-43CE-BBE4-0DED29FD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8FA5-B76C-4448-BEDC-1CB1C5F9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1B11-0C3E-4485-87D2-E2B6941A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9AB1-C1AD-4AB2-98EB-E62DB53D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FAFE-62BC-4CAF-9E4A-5C43C7B1C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E65F-26F3-41B6-BBE6-C871C96FC1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acArthur_Manila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2/March_of_Death_from_Bataan_to_the_prison_camp_-_Dead_soldier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Lesson 2:  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The War in the Pacific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fighting in the Pacific was done over wa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2"/>
          <a:stretch/>
        </p:blipFill>
        <p:spPr>
          <a:xfrm>
            <a:off x="2151000" y="0"/>
            <a:ext cx="484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Battle of Midway: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“payback” for P.H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40384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 by Adm. Nim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to attack; 110 ship; goal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stroy US fl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from Midway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waii to ma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es outnumber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/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es – massive air attack; Japan retre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pa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v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eco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110160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7" descr="midway4.jpg (18990 bytes)"/>
          <p:cNvPicPr/>
          <p:nvPr/>
        </p:nvPicPr>
        <p:blipFill>
          <a:blip r:embed="rId1"/>
          <a:stretch/>
        </p:blipFill>
        <p:spPr>
          <a:xfrm>
            <a:off x="4495680" y="3733920"/>
            <a:ext cx="4648320" cy="26114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8"/>
          <p:cNvSpPr/>
          <p:nvPr/>
        </p:nvSpPr>
        <p:spPr>
          <a:xfrm>
            <a:off x="149400" y="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10" descr="wpe6.jpg (51006 bytes)"/>
          <p:cNvPicPr/>
          <p:nvPr/>
        </p:nvPicPr>
        <p:blipFill>
          <a:blip r:embed="rId2"/>
          <a:stretch/>
        </p:blipFill>
        <p:spPr>
          <a:xfrm>
            <a:off x="4800600" y="685800"/>
            <a:ext cx="40989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36F0-1E6C-423F-BDCE-CBBFCD6DB743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.  Island Hopp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6553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to take ov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pecific island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acific in order to establish bases as close as possible to Jap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llow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irfields, docks, and sup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. MacArthur return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2 yrs. Later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victory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ttle of Leyte Gulf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hilippi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st naval battle in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mikazes implemented by Japan (15,00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EF48-D952-4E71-AD53-AD6F79E1F0F3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amikaz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Image:USS Bunker Hill hit by two Kamikazes.jpg"/>
          <p:cNvPicPr/>
          <p:nvPr/>
        </p:nvPicPr>
        <p:blipFill>
          <a:blip r:embed="rId1"/>
          <a:stretch/>
        </p:blipFill>
        <p:spPr>
          <a:xfrm>
            <a:off x="304920" y="800280"/>
            <a:ext cx="876276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3B70-C522-4791-A85B-AA03C1CD9273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4" descr="Image:Kamikaze zero.jpg"/>
          <p:cNvPicPr/>
          <p:nvPr/>
        </p:nvPicPr>
        <p:blipFill>
          <a:blip r:embed="rId1"/>
          <a:stretch/>
        </p:blipFill>
        <p:spPr>
          <a:xfrm>
            <a:off x="380880" y="27000"/>
            <a:ext cx="838224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laces of Conflic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7" descr="US_landings"/>
          <p:cNvPicPr/>
          <p:nvPr/>
        </p:nvPicPr>
        <p:blipFill>
          <a:blip r:embed="rId1"/>
          <a:stretch/>
        </p:blipFill>
        <p:spPr>
          <a:xfrm>
            <a:off x="228600" y="887400"/>
            <a:ext cx="876312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dfdef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Allies Stem the Japanese Tide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Japan in the Philipp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cArth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9999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diers in Philippines getting killed/woun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9999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 abandons soldiers/promises to 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taan M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,000 POW/10,000 d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05520" y="837720"/>
            <a:ext cx="40384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8" descr="150px-MacArthur_Mani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219320"/>
            <a:ext cx="299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taan March</a:t>
            </a: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pril 9, 194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5" descr="Bataan_Death_March_route"/>
          <p:cNvPicPr/>
          <p:nvPr/>
        </p:nvPicPr>
        <p:blipFill>
          <a:blip r:embed="rId1"/>
          <a:stretch/>
        </p:blipFill>
        <p:spPr>
          <a:xfrm>
            <a:off x="2209680" y="1473120"/>
            <a:ext cx="484848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taan Death Mar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5" descr="File:March of Death from Bataan to the prison camp - Dead soldi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5" descr="File:NA 127-N-114541.jpg"/>
          <p:cNvPicPr/>
          <p:nvPr/>
        </p:nvPicPr>
        <p:blipFill>
          <a:blip r:embed="rId1"/>
          <a:stretch/>
        </p:blipFill>
        <p:spPr>
          <a:xfrm>
            <a:off x="228600" y="-14400"/>
            <a:ext cx="86104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5" descr="Anti-Japan2"/>
          <p:cNvPicPr/>
          <p:nvPr/>
        </p:nvPicPr>
        <p:blipFill>
          <a:blip r:embed="rId1"/>
          <a:stretch/>
        </p:blipFill>
        <p:spPr>
          <a:xfrm>
            <a:off x="200196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Battle at Coral Sea – New Naval warf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ighting done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rrier-ba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irpl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codes deciphered = US better prepa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battle, Alllies able to turn back Japan; invasion of Australia stopped (cut US suppl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5" descr="Image:Principe-de-Asturias Wasp Forrestal Invincible 1991 DN-ST-92-01129s.jpg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PER</dc:creator>
  <dc:description/>
  <dc:language>en-US</dc:language>
  <cp:lastModifiedBy>SUPER</cp:lastModifiedBy>
  <dcterms:modified xsi:type="dcterms:W3CDTF">2018-01-09T22:36:1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